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E79-80EB-4A61-96CA-5526C23C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6B9-2F69-4AD6-9889-BDD36F45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1E2-0A12-4B9A-B7EF-2A63B977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DDC-19D9-4A2F-A808-DA99FAA6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9FC-32F4-4926-AF2B-E128EE5D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636-9DB7-430D-9BB6-BD859A9F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BF6-89AA-41EE-95E3-D3AA128F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075-C92B-4901-B300-A5897C8F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D29-6918-4DC8-BE08-2A2730C3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18D-B7BA-4BE4-96CB-F0F1C51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1884-DFB8-4260-AF06-F8D10635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17F-D193-4C90-9B09-3D6A8C39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06B0-CD49-49A5-B02E-C5F5A90205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Теория самопроизвольного зарождения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Живое возникло из неживого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тернатива креацио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одилась в Древнем Китае, Вавилоне и Егип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рженцами теории были: Эмпедокл, Демокрит и особенно Аристо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Виталистам, и сторонникам самозарождения вообще, был нанесен сокрушительный удар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Л.Пастера с колб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се живое из живого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116000" y="2382840"/>
            <a:ext cx="6696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тверждение теории биогенеза породило другую проблем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2997000"/>
            <a:ext cx="8540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Коль скоро для возникновения живого организма необходим другой живой организм, то откуда же взялся самый первый живой организ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31116"/>
                </a:solidFill>
                <a:latin typeface="Arial"/>
              </a:rPr>
              <a:t>Аристотель 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(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в. до н. э.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3860640"/>
            <a:ext cx="854064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тверждал наличие «активного начал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ивое может возникать не только в результате спаривания животных, но и 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ожения почвы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27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деи Аристотеля о самозарождении жизни сохраняли власть над умами многих видных ученых очень долго, вплоть до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3536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вестный врач Парацельс пытался опытным путем доказать самозарождение лягушек, мышей, черепах, угрей из воды, воздуха, соломы, гниющего дерева и других неживых предмето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4221000"/>
            <a:ext cx="2757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Парац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493 – 1541)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615960" y="404640"/>
            <a:ext cx="2001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0" y="1557000"/>
            <a:ext cx="618336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Ян Баптист ван Гельмонт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577 – 1644)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Описал эксперимент, в котором он за три недели якобы создал мышей. Для этого были нужны грязная рубашка, темный шкаф и горсть пшеницы. Активным началом в процессе зарождения мыши ван Гельмонт считал человеческий пот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Picture 6" descr="helmont"/>
          <p:cNvPicPr/>
          <p:nvPr/>
        </p:nvPicPr>
        <p:blipFill>
          <a:blip r:embed="rId1"/>
          <a:stretch/>
        </p:blipFill>
        <p:spPr>
          <a:xfrm>
            <a:off x="179280" y="981000"/>
            <a:ext cx="2498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64000" y="475920"/>
            <a:ext cx="527832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Жан Батист Ламар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744 – 18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ал о самозарождении некоторых гриб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1146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Опровержение теории самопроизвольного зарождения жизн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4868640"/>
            <a:ext cx="297504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1116"/>
                </a:solidFill>
                <a:latin typeface="Arial"/>
              </a:rPr>
              <a:t>Франческо Ре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626 – 169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7672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й работе «Эксперименты над зарождением насекомых» в 1668 г. он, обобщая свои наблюдения, высказал предположение, что «черви» появились в результате полового размножения мух на гниющем мясе, а у самого гнилого мяса нет другой функции, кроме как служить питанием для мух и быть местом откладки их я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redi"/>
          <p:cNvPicPr/>
          <p:nvPr/>
        </p:nvPicPr>
        <p:blipFill>
          <a:blip r:embed="rId1"/>
          <a:stretch/>
        </p:blipFill>
        <p:spPr>
          <a:xfrm>
            <a:off x="468360" y="1773360"/>
            <a:ext cx="2160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Ладзаро Спалланцан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729 – 1799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тупил против самозарождения бактер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65 г. провел следующий опыт: прокипятив мясной бульон в течение часа, он запаял вытянутое горлышко колбы. В запаянной колбе микроорганизмы не возникали. Из этого Спалланцани сделал вывод, что высокая температура уничтожила все формы живых существ и что без них ничто живое уже не могло возникн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Французская Академия наук назначила в 1859 г. специальную премию за попытку ответить на вопрос о самопроизвольном зарождени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27280" y="2924280"/>
            <a:ext cx="432108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у премию спустя три года, в 1862 г., получил французский ученый </a:t>
            </a: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Луи Пас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822 – 189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paster"/>
          <p:cNvPicPr/>
          <p:nvPr/>
        </p:nvPicPr>
        <p:blipFill>
          <a:blip r:embed="rId1"/>
          <a:stretch/>
        </p:blipFill>
        <p:spPr>
          <a:xfrm>
            <a:off x="539640" y="2492280"/>
            <a:ext cx="309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37:53Z</dcterms:created>
  <dc:creator>Ученик</dc:creator>
  <dc:description/>
  <dc:language>en-US</dc:language>
  <cp:lastModifiedBy>Александр</cp:lastModifiedBy>
  <dcterms:modified xsi:type="dcterms:W3CDTF">2012-03-19T15:55:28Z</dcterms:modified>
  <cp:revision>9</cp:revision>
  <dc:subject/>
  <dc:title>Слайд 1</dc:title>
</cp:coreProperties>
</file>